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439-E58F-41B8-BDA8-B33DEE37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3E2-C058-4AB6-98A9-847932CB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98B-82A2-4A7A-952C-309AE595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81A-089E-474B-AA80-05DB5D5B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810D-8577-4593-ADB7-CDC72499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0761-33DF-4E6E-A18A-D53E2A87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F8D0-50A9-448A-8BF1-26EEE5BA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CCEC-12F1-466B-BF55-9FDD450B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89F8-C8AA-4DA7-BC4F-BC1791FB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0300-0D6F-42FB-B324-9112F2B2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76A8-4700-4429-939E-F406520B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D7B-DAF4-40D0-ABE7-174D7909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91D5-CF27-4E7D-BAE8-285A4D94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216F-A619-4570-8D3C-A7478747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42D8-6D1B-4BCA-8121-8E47FB70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D26E-F65F-4573-99EE-3E354A47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8F33-F115-44D7-854F-C10357F6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55F-DF49-4CD6-975D-25699C1E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0E3-B088-4C27-865D-FF2B791F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1A1-1CAD-4D47-9A8A-98AD71D7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C1A-F926-44CB-93C2-3AA79B2C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214-FBCF-4CB8-9D5D-F280F598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8CA-72F7-4BEC-9C83-7A206A5F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F4F-8D6A-4258-9CD5-7C521135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C0FD-3312-404F-8D41-F3C609543F9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6C52-41DD-4F16-9EF1-1F4EA89C7C2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NADA’S IMMIGRATION POLIC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ANADA’S IMMIGRATION POLIC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ada’s immigration quota is approximately 200 000 – 300 000 per ye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quota set each year depends 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pulation growth r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c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mand for family reunif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ational events (# of refugees – 10% of tot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23" dur="1" fill="hold"/>
                                  <p:tgtEl>
                                    <p:spTgt spid="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24" dur="1" fill="hold"/>
                                  <p:tgtEl>
                                    <p:spTgt spid="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25" dur="1" fill="hold"/>
                                  <p:tgtEl>
                                    <p:spTgt spid="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26" dur="1" fill="hold"/>
                                  <p:tgtEl>
                                    <p:spTgt spid="9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YPES OF IMMIGRANTS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ependent/Economic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 groups (skilled [67 pts] &amp; business [35 pts]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siness immigrants must have a net worth of between $300 000 - $800 0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contribute to the country’s economic prospe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42" dur="1" fill="hold"/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43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4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YPES OF IMMIGRANTS (Cont...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amily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mily members already in Cana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n sponsor immigrants if 19 or older and can prove they are financially cap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fugee Cla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placed people who flee for their lives due to political or cultural reas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current Immigration Minister is 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sh factors? Pull factors? Intervening obstacl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" dur="1" fill="hold"/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6" dur="1" fill="hold"/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7" dur="1" fill="hold"/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8" dur="1" fill="hold"/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9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70" dur="1" fill="hold"/>
                                  <p:tgtEl>
                                    <p:spTgt spid="1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8:12:33Z</dcterms:created>
  <dc:creator>OCDSB User</dc:creator>
  <dc:description/>
  <dc:language>en-US</dc:language>
  <cp:lastModifiedBy>OCDSB User</cp:lastModifiedBy>
  <dcterms:modified xsi:type="dcterms:W3CDTF">2011-04-28T18:20:19Z</dcterms:modified>
  <cp:revision>2</cp:revision>
  <dc:subject/>
  <dc:title>CANADA’S IMMIGRATION POLICY</dc:title>
</cp:coreProperties>
</file>